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495000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08600" y="8823240"/>
            <a:ext cx="9363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D5B39-A282-4BC2-A2EB-4CD76E16A7A9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/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6880" y="8879040"/>
            <a:ext cx="5202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4603680"/>
            <a:ext cx="4846680" cy="3819600"/>
            <a:chOff x="914400" y="4603680"/>
            <a:chExt cx="4846680" cy="3819600"/>
          </a:xfrm>
        </p:grpSpPr>
        <p:sp>
          <p:nvSpPr>
            <p:cNvPr id="45" name=""/>
            <p:cNvSpPr/>
            <p:nvPr/>
          </p:nvSpPr>
          <p:spPr>
            <a:xfrm>
              <a:off x="922320" y="460368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22320" y="49593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529128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564660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30240" y="599436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30240" y="635004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22320" y="66819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22320" y="703728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2320" y="737856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2320" y="773424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80661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842184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419480" y="4145040"/>
            <a:ext cx="48672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96756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19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892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212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892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212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127080"/>
            <a:ext cx="8912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19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6665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E RIUNIONI DI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420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LI ERRORI PIÙ FREQUENTI NELLA GESTIONE DELLE RIUN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2920" y="1752480"/>
            <a:ext cx="7016760" cy="44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CONDURRE LA RIUN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PORTAMENTI E COMUNICAZIONI DISPERSIVI, CONFLITTUALI, NON COERENTI CON L’OBIETTIVO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NCANZA DI COORDI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FFICOLTÀ A PRENDERE DECI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CONCLUDERE LA RIUN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NZA DI CONCLUSIONE E CONDIVISIONE DI DECISIONI 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NZA DI PIANIFICAZIONE OP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DUZIONE DELLE RIUNIONI: GESTIRE IN MODO ATTIVO LE DIVERSE 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2680" y="1599840"/>
            <a:ext cx="842004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PARAZ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PRIM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ERTUR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INIZI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OLGIMENT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CENTR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FIN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EPARAZIONE DELLA RIUNI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L’OBIETTIVO DELLA RIUNIONE. QUAL E’ IL RISULTATO ATTESO ATTESO, COSA SI VUOLE CONSEGUIRE CON 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DISPORRE UN 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BILIRE LA DURAT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DENTIFICARE I PARTECIPANTI NECESS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PARARE LA DOCUMENTAZIONE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LE CONDIZIONI LOGI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VIARE TUTTA LA DOCUMENTAZIONE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PERTURA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CREARE CONDIVISIONE SU FINALITÀ E MODALITÀ DI LAVO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40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PLICITARE IL RISULTATO ATTESO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PECIFICARE L’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I TEM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BILIRE IL METODO/PROCESS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GNARE EVENTUALI INCARI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CORDARE EVENTUALI ASPETTI LOGIS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VOLGIMENTO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GESTIRE LE COMUNICAZIONI, INDIRIZZARE VERSO L’OBIETTIVO PREVI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7800" y="2057400"/>
            <a:ext cx="8585280" cy="523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SIDIO DELLA METODOLOGIA/PROCESSO DI LAVORO STABIL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GOLARE LA COMUNICAZIONE: FAR INTERVENIRE, GARANTIRE L’ASCOLTO, INTEGRARE, LIMITARE, ALLARGA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ITARE DISPERSIONI, NON SOFFERMARSI SU ARGOMENTI SECONDARI O AL DI FUORI DELL’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ESTIRE RAPPORTI-COMPORTAMENTI PROBLEMATICI O CONFLIT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TILIZZARE SUPPORTI: LAVA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VOLGIMENTO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GESTIRE LE COMUNICAZIONI, INDIRIZZARE VERSO L’OBIETTIVO PREVI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2057400"/>
            <a:ext cx="8585280" cy="456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RE SINTESI PARZIALI AL TERMINE DI OGNI FASE E SU COSE “ACQUISITE”, RICAPITOLARE PERIOD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SCUTERE ALL’INIZIO I PUNTI CHE RICHIEDONO MAGGIORE IMPEGNO, INIZIARE DAI PUNTI CHE UNISCONO I PARTECIP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HIUDERE ALL’ORA STABILITA ( LA DURATA IDEALE DI RIUNIONE NON DOVREBBE SUPERARE LE DUE 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CLUSIONE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VERIFICA DI CIO’ CHE E’ IN COMUNE, FISSARE OUTPUT CONDIVI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NTESI DI CIO’ CHE E’ STATO DEFINITO E MESSO IN COM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LEVAZIONE DI EVENTUALI PUNTI ANCORA APER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IANIFICAZIONE DEL “DOPO” RIUNIONE: AZIONI, COMPITI E RESPONSABILITÀ, TEMPI, MODALITÀ DI VER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VERBALE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DOCUMENTARE LA RIUNIONE, EVITARE CHE SI RIMETTANO IN DISCUSSIONE COSE ACQUISITE, RESPONSABILIZZARE SULLE CONCLUSIO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2680" y="2389320"/>
            <a:ext cx="84200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EM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UNTI TRAT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ENTUALE SINTESI INTERVENTI DEI SINGOLI, PROPOSTE FATTE, POSIZIONI ASSU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NTESI DELLE CONCLUSIONI E DELLE DECISIONI 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SPONSABILITÀ ASSEG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e qualità del condut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par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conosciuto per le sue compet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ccettato come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pace di valorizzare tu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utostima autonoma: non permal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iaro e sinte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telligente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e qualità del condut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nergico: deve essere ripos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redib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ansio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manipolabile – obiet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involg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Decidere cosa f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cosa nu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ggiustamenti in corso d'op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are un proget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convincere della sua bon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are un proget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sottoporlo a possibili modif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ventare assieme qualcosa di nuov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rocesso creativo di grup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nere alta la motivazione e la tension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gire sulle emo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420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LI ERRORI PIÙ FREQUENTI NELLA GESTIONE DELLE RIUN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85720" y="1752480"/>
            <a:ext cx="69339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PROGETTARE/PREPARARE ANTICIPATAMENTE LA RIUN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UNIONE NON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UNIONE DIVERSA DA QUELLA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BIETTIVO POCO CHIA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RDINE DEL GIORNO NON FORMU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RTECIPANTI NON ADEGU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RTECIPANTI SENZA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0:52:13Z</dcterms:created>
  <dc:creator>Tartaglia</dc:creator>
  <dc:description/>
  <dc:language>en-US</dc:language>
  <cp:lastModifiedBy>Your User Name</cp:lastModifiedBy>
  <cp:lastPrinted>2010-03-11T20:03:29Z</cp:lastPrinted>
  <dcterms:modified xsi:type="dcterms:W3CDTF">2008-12-15T15:30:21Z</dcterms:modified>
  <cp:revision>161</cp:revision>
  <dc:subject/>
  <dc:title>Presentazione di PowerPoint</dc:title>
</cp:coreProperties>
</file>