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png" ContentType="image/png"/>
  <Override PartName="/ppt/media/image6.jpeg" ContentType="image/jpeg"/>
  <Override PartName="/ppt/media/image5.wmf" ContentType="image/x-wmf"/>
  <Override PartName="/ppt/media/image9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4.png" ContentType="image/png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8.jpeg" ContentType="image/jpeg"/>
  <Override PartName="/ppt/media/image14.wmf" ContentType="image/x-wmf"/>
  <Override PartName="/ppt/media/image27.wmf" ContentType="image/x-wmf"/>
  <Override PartName="/ppt/media/image15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201680" y="841320"/>
            <a:ext cx="4484880" cy="336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01680" y="84132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metodologia didattica che verrà adottata nel seminario è altrettanto importante per realizzare gli obiettivi di apprendimento prop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B0ED0-79CE-4E8A-9EC3-B6571A65E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E7BB-AAE4-48FA-9E40-774CDD0CD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F8B5-F800-4F32-89E1-4A5E12DFC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188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7620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188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7620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A54F-DCE4-44AD-9A1D-D43F9CE5B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FCAF9-73BE-46EF-BA0E-B70E7BD2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F8572-89C7-4F65-8072-909DD166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84876-548C-499B-9CDA-7D714338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66655-94E1-4D79-B531-BDF3B466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B3102-0C59-45B4-9FDA-DBFC02EB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AA241-67CF-448B-831D-E01A0EA0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17D63-EC35-4A7D-934C-F61CECCF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2CD5-BB64-441F-B21F-05303D060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50633-BDE0-4BF2-9195-C0E3F582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14309-546C-48B8-B2F4-40A56F1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2D222-9C7D-414C-A958-849911E4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74A09-FAC5-4DB8-9A62-B9C1723E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E2861-4702-4581-98D1-041CBE78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F1A1-189C-4032-AE00-221EA953A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4AB7-B217-4289-87D4-7384B4FFD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956B-9481-454B-B3C1-AE122F77C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9A94-9BA4-4327-8D64-9B3E7F65E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E9AC-3720-4CDE-B478-6F7CA553D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4CD2-EF19-4A09-AE29-515494A44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BC41-E099-4676-856F-2CFB19E50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61E0-779A-4840-92F8-852B1C64CB5F}" type="slidenum">
              <a:rPr b="1" lang="en-US" sz="1200" spc="-1" strike="noStrike">
                <a:solidFill>
                  <a:srgbClr val="0000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3343320" cy="1224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3B58-7FC1-4913-89C7-D4C4D5B92836}" type="slidenum">
              <a:rPr b="1" lang="en-US" sz="1400" spc="-1" strike="noStrike">
                <a:solidFill>
                  <a:srgbClr val="0000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720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7474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74747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74747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74747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7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cc"/>
                </a:solidFill>
                <a:latin typeface="Tahoma"/>
              </a:rPr>
              <a:t>LA RIUNIONE COME LUOGO </a:t>
            </a:r>
            <a:br>
              <a:rPr sz="3000"/>
            </a:br>
            <a:r>
              <a:rPr b="0" lang="it-IT" sz="3000" spc="-1" strike="noStrike">
                <a:solidFill>
                  <a:srgbClr val="0000cc"/>
                </a:solidFill>
                <a:latin typeface="Tahoma"/>
              </a:rPr>
              <a:t>DI MEDIAZIONE E NEGOZIAZIONE</a:t>
            </a:r>
            <a:br>
              <a:rPr sz="3000"/>
            </a:b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Dott. Enrico Flavio Giangreco</a:t>
            </a:r>
            <a:br>
              <a:rPr sz="2800"/>
            </a:br>
            <a:r>
              <a:rPr b="0" lang="it-IT" sz="2600" spc="-1" strike="noStrike">
                <a:solidFill>
                  <a:srgbClr val="0000cc"/>
                </a:solidFill>
                <a:latin typeface="Tahoma"/>
              </a:rPr>
              <a:t>Docente di Formazione</a:t>
            </a:r>
            <a:br>
              <a:rPr sz="2600"/>
            </a:br>
            <a:r>
              <a:rPr b="0" lang="it-IT" sz="2600" spc="-1" strike="noStrike">
                <a:solidFill>
                  <a:srgbClr val="0000cc"/>
                </a:solidFill>
                <a:latin typeface="Tahoma"/>
              </a:rPr>
              <a:t>Giornalista Professionista</a:t>
            </a:r>
            <a:endParaRPr b="0" lang="en-US" sz="26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4021200"/>
            <a:ext cx="3429000" cy="23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21FD6-DBC7-499C-A774-BA34C4A0D0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 requisiti di un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lmeno tre pers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Obiettivo comune interrelato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ntiguità fisica periodic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5800" y="2517840"/>
            <a:ext cx="381492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1A9F-A87B-4AAB-A1A0-CD13E8C6F0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Team building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66"/>
                </a:solidFill>
                <a:uFillTx/>
                <a:latin typeface="Tahoma"/>
              </a:rPr>
              <a:t>Gruppo di lavor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Committenza organizzativa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Obiettivo chiaro e condivis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Analisi delle risorse e dei vincoli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(R.U./Tecnologia/Tempo/Budget)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E6E5-DABB-4F99-B84D-29EF1A661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dinamiche di gruppo: le regol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ll'interno di un gruppo è necessario concordare una serie di regole </a:t>
            </a: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FONDAMENTAL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Gli scopi di tali regole so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stabilire un codice di comportamento comune durante le riunioni e le altre interazioni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offrire ai membri del team un quadro di riferimento per affrontare il comportamento reciproco, senza che l'interazione rischi continuamente di diventare una questione personale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5686-2CC3-4CC6-8159-7FA5F98B0D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dinamiche di gruppo: le regol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Perché funzionino, le regole devo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prese di comune accordo da tutti i componenti del Team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sufficientemente specifiche da essere pratiche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crescere insieme al Team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Non devono, al contrari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d'ostacolo alla creatività del Team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usate come un'arma contro i singoli di fronte ai colleghi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3EA8-B444-469D-BBB4-2AD4EDED2D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cune dinamiche portano i membri di un gruppo a prendere sovente delle decisioni che individualmente non prenderebbero (la logica del gregge)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35000" y="2552760"/>
            <a:ext cx="285588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E68E-49C1-4995-B27A-8ED8C98BA0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tre dinamiche spingono alcuni individui a esprimere opinioni estreme che non prenderebbero se non fossero sfidati o sollecitati da interlocutori in disaccordo (la logica del campanile)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2368440"/>
            <a:ext cx="3814920" cy="303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6420-23C4-4F28-AA32-232E5B42D1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41300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tre dinamiche nei gruppi riguardano i gruppi eccessivamente coesi, i quali spesso sono più interessati a mantenere un livello di coesione e consenso interno alto, piuttosto che individuare la migliore delle soluzioni. (la logica della banda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85960" y="2982960"/>
            <a:ext cx="161280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99C9-BA4D-49B1-8611-3C36A18E50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Un approccio adeguato al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Favorire il dissenso nel gruppo, quindi, può, in qualche modo, stimolare lo spirito critic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04840" y="2666880"/>
            <a:ext cx="2990880" cy="23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586C-DA6E-440B-93A4-AB00E8E491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a struttura del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dimensione psicologica della struttura d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ruppo è costituita d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apporti di amiciz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mpatia / Antipat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ggressività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etizione / Collaborazi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000066"/>
                </a:solidFill>
                <a:latin typeface="Wingdings"/>
                <a:ea typeface="Wingdings"/>
              </a:rPr>
              <a:t></a:t>
            </a:r>
            <a:endParaRPr b="0" lang="en-US" sz="41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referenz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ifiu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ssociazione di pers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Frequenz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Qualità delle relazi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5EDC-FF92-4E35-8F0E-D7E986C018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forze in un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’attrazione interperson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’influenza soci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e rego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Il conformism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714680" y="3008160"/>
            <a:ext cx="1755720" cy="175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2C81B-C24C-4137-A376-3071A7EF53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Obiettivi di apprendimen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846920" cy="49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Identificare la comunicazione come leva di superamento dei conflitt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La comunicazione come strumento di mediazione per lavorare in tea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Comunicare in una riunione per negoziare: un approccio assertivo per essere persuasiv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Utilizzare in modo appropriato le strategie negoziali nel governo di una riunion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FE4F-8E59-4199-87DF-2503EDD1C9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Ruolo 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1640" y="1125000"/>
            <a:ext cx="38862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Posizione di un membro rispetto agli altri componenti di un grupp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mpiti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Funzi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Reazioni Comportamentali Ipotizzabil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741320" y="2965320"/>
            <a:ext cx="170352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CA23-8FF3-416F-9CEB-83D67ACB1E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l gruppo e la soddisfazione dei bisog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LEADER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equilibri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i dell’individu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GROUP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i del grupp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22600" y="2976480"/>
            <a:ext cx="1739880" cy="18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4C68-6DBD-4912-BE33-82F2A9EA26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La Comunicazione Assertiva 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per la Riunione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316E0-E0AC-4DE0-B00D-8A7B0CBA83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'ASSERTIVITA' SI BASA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ul senso di responsabilità persona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ulla consapevolezza dei diritti altru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744560" y="2655720"/>
            <a:ext cx="1695600" cy="246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DA47-7667-40B2-B331-392CB46FC6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48000" y="260280"/>
            <a:ext cx="5796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L’assertività significa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Essere onesti con se stessi e con 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la capacità di comunicare direttamente quale è la cosa che vogliamo, di cui abbiamo bisogno o che proviamo, ma </a:t>
            </a:r>
            <a:r>
              <a:rPr b="0" lang="it-IT" sz="2600" spc="-1" strike="noStrike" u="sng">
                <a:solidFill>
                  <a:srgbClr val="000066"/>
                </a:solidFill>
                <a:uFillTx/>
                <a:latin typeface="Tahoma"/>
              </a:rPr>
              <a:t>NON</a:t>
            </a: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 a spese del prossimo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fiducia in se stess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Tenere un atteggiamento positivo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Comprendere il punto di vista de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Comportarsi in modo razionale e adulto.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Riuscire a negoziare e a raggiungere un compromesso realizzabile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rispetto per se e per 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1035000" y="3317760"/>
            <a:ext cx="663480" cy="100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F093-925D-4F97-87DC-A55474E2F8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2920" y="105264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L’assertività NON signific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Fare di testa propria e vincere semp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mparare a pappagallo una serie di tecniche e trucchetti prestabiliti da utilizzare ogni volta che si presenta una soluzione diffici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anovrare e controllare gli altri in modo da averla sempre vin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873080" y="2894040"/>
            <a:ext cx="1440000" cy="19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BEA0-7A17-4707-A168-8B31CB9357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L’assertività permett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avere molte più possibilità di ottenere ciò che si vuo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accettare positivamente se stesso e il proprio comportamen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25480" y="3035160"/>
            <a:ext cx="1733760" cy="17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B141-3310-4338-ABEC-B4ED9397E6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tre fasi del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er acquisire assertività vi sono tre semplici fas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1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SCOLTATE ATTIVAMENTE QUELLO CHE VIENE DETTO, POI MOSTRATE ALL'ALTRA PERSONA CHE AVETE SENTITO E CAPI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2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TE COSA PENSATE O COSA PROVA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TE COSA VOLETE CHE ACC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5402-E977-4C1C-A310-40D300D1B5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Tecniche chiave del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24000" y="907560"/>
            <a:ext cx="449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inguaggio del corp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Tecnica del disco incanta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re N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mpromesso realizzabi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nnebbiamen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aloghi interior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ffermazione di sentimenti negativ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ffermazioni di disaccord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1104840" y="2595600"/>
            <a:ext cx="2389320" cy="25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3F4F-9AE2-4A41-A257-7659782300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50920" y="1052640"/>
            <a:ext cx="456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Migliorare il modo di comunicare, combattere l’ansia, in una parola, padroneggiare la situazione, significa diventare assertiv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ventare assertivi consente il creare un “potere positivo”, l’esercitare una leadership attiva, l’avere credibilità e, quindi, l’</a:t>
            </a:r>
            <a:r>
              <a:rPr b="0" lang="it-IT" sz="2800" spc="-1" strike="noStrike" u="sng">
                <a:solidFill>
                  <a:srgbClr val="000066"/>
                </a:solidFill>
                <a:uFillTx/>
                <a:latin typeface="Tahoma"/>
              </a:rPr>
              <a:t>essere persuasivi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035000" y="2882880"/>
            <a:ext cx="1619280" cy="171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2A16-2409-4558-A390-EA2F79991F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Gli assiomi della comunicazion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87480" y="1676520"/>
            <a:ext cx="4770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n si può non comunic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Ogni messaggio presenta un aspetto di contenuto e uno di relazion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significato di una sequenza di informazioni scritte è dato dalla punteggia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istono relazioni simmetriche e relazioni complementari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È gratuito supporre che l'altro colga le stesse informazioni e le elabori nello stesso mo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71440" y="2882880"/>
            <a:ext cx="1370160" cy="19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BF4E-CAF0-4559-8715-833A254B20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00000" y="1341000"/>
            <a:ext cx="572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er far questo è necessario super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il rifiuto psicologico del potere e, quindi, delle responsabilità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il rifiuto, a priori, delle situazioni conflittual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eccessiva importanza data al “giudizio” degli altr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incapacità di “fidarsi” degli altr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a paura di non “riuscire”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anticipo mentale delle “conseguenze negative” e, quindi, l’inibizione dell’immaginazione positiva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o scarso livello di “speranza” nel futuro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impossibilità di credere alle proprie capacità di “influenzare” gli altri.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35000" y="2739960"/>
            <a:ext cx="1400400" cy="19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1F72-9A4E-41A7-A5D7-66E92040C7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5640" y="1413000"/>
            <a:ext cx="4430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’ bene tenere, sempre, presente che ognuno possiede delle risorse e delle potenzialità, che può utilizzare meglio e valorizzare, che possono diventare i punti di forza di un proprio “stile comunicativo” personale e soggettiv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comportamento assertivo è una qualità che permette a un soggetto di raggiungere gli obiettivi prefissati senza creare situazioni conflittuali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374840" y="2451240"/>
            <a:ext cx="1498680" cy="24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287A-1F89-479C-A02F-D73F19A413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 piani della comunicazione assertiva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24360" y="1341000"/>
            <a:ext cx="4533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comunicazione assertiva si esprime su piani differenti che riguarda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l viso (contatto visivo; espressione del viso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l corpo (gesti; posizione del corpo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la voce (tono; inflessione; volume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 tempi (andata; ritorno)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71440" y="2739960"/>
            <a:ext cx="166392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3DB2-9EA9-4F01-8AAD-656A9AC490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La Riunione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CCF55-E3CE-4A40-A225-9E1B5E8AE0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920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00" y="1905120"/>
            <a:ext cx="142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IPOLO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9120" y="191772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0560" y="2421000"/>
            <a:ext cx="1769400" cy="365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RM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L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ISIO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5160" y="2374920"/>
            <a:ext cx="58935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nire dati preliminari e aggiornare situazioni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plicitare politiche dell’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re disposizioni e diffondere conoscen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acilitare l’omogeneità del modo di lavor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ccogliere pare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lutare aspetti glob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frontare competenze specifi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aborare alternative e preparare decisio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pprovare una raccomand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cegliere tra varie propo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finire piani d’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bilire responsabi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vviare nuovi proget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Tipologie e Obiett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8FD7-6731-4898-907D-A6F28F0EE41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4920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44640"/>
            <a:ext cx="1873080" cy="365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R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844640"/>
            <a:ext cx="59864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bilire obiettivi e durata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unicare quanto sopra a tutti i partecipanti fornendo 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teriale di rifer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chiedere conferma della partecip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erificare il consenso sugli 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partire il tempo a dispos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minare un segretario per far rispettare i tempi e f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parare un verb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tribuire il verbale con le indicazioni s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 fa cos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ntro quali tem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 quali riso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cadenze per ulteriori incontri o verific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Organizzare una Riunion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7B59-D663-41B3-8E08-FDEC8A5849C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l governo della Riunione: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e Strategie Negozial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9880" y="3962520"/>
            <a:ext cx="15670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CB265-9506-41BF-9E5B-72939A434D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286000"/>
            <a:ext cx="73152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trategie Negoziali (1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68200" y="236232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141640" y="1600200"/>
            <a:ext cx="6241320" cy="667800"/>
            <a:chOff x="2141640" y="1600200"/>
            <a:chExt cx="6241320" cy="667800"/>
          </a:xfrm>
        </p:grpSpPr>
        <p:sp>
          <p:nvSpPr>
            <p:cNvPr id="189" name=""/>
            <p:cNvSpPr/>
            <p:nvPr/>
          </p:nvSpPr>
          <p:spPr>
            <a:xfrm>
              <a:off x="2141640" y="162072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0480" y="163044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66640" y="160020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80" y="1601640"/>
            <a:ext cx="1710000" cy="4500000"/>
            <a:chOff x="2880" y="1601640"/>
            <a:chExt cx="1710000" cy="4500000"/>
          </a:xfrm>
        </p:grpSpPr>
        <p:sp>
          <p:nvSpPr>
            <p:cNvPr id="193" name=""/>
            <p:cNvSpPr/>
            <p:nvPr/>
          </p:nvSpPr>
          <p:spPr>
            <a:xfrm>
              <a:off x="229320" y="1601640"/>
              <a:ext cx="1173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80" y="2362320"/>
              <a:ext cx="171000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Obiettivo 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comportam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Espress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degli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28080" y="2363760"/>
            <a:ext cx="7142760" cy="3739320"/>
            <a:chOff x="1828080" y="2363760"/>
            <a:chExt cx="7142760" cy="3739320"/>
          </a:xfrm>
        </p:grpSpPr>
        <p:sp>
          <p:nvSpPr>
            <p:cNvPr id="196" name=""/>
            <p:cNvSpPr/>
            <p:nvPr/>
          </p:nvSpPr>
          <p:spPr>
            <a:xfrm>
              <a:off x="1828080" y="2363760"/>
              <a:ext cx="183348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ersegue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 spese de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Nasconde 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roprie carte: a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iducia in se stes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 bassa nel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prende 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istorc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90160" y="2363760"/>
              <a:ext cx="244620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rsegue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stenuti in comu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l’altra 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sprim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nsieri e emozioni c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fiducia e schiettezza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scolto attivo ed espl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azione comune del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ternati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rende e rappres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a accuratament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52000" y="2363760"/>
              <a:ext cx="241884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sciamente subord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na i propri obiettivi p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vitare il conflit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letamente aper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nell’esprimere le propri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bolezze e vulnerab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eoccupato dei 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ll’altro, reprime 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opri 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3B0C-80F1-4FBB-9A42-3181AE1EFB4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52480" y="2209680"/>
            <a:ext cx="7391520" cy="464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4960" y="2330280"/>
            <a:ext cx="846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068560" y="1523880"/>
            <a:ext cx="6238440" cy="667800"/>
            <a:chOff x="2068560" y="1523880"/>
            <a:chExt cx="6238440" cy="667800"/>
          </a:xfrm>
        </p:grpSpPr>
        <p:sp>
          <p:nvSpPr>
            <p:cNvPr id="202" name=""/>
            <p:cNvSpPr/>
            <p:nvPr/>
          </p:nvSpPr>
          <p:spPr>
            <a:xfrm>
              <a:off x="2068560" y="155412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25600" y="155412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90680" y="152388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1569960"/>
            <a:ext cx="1905120" cy="5288040"/>
            <a:chOff x="0" y="1569960"/>
            <a:chExt cx="1905120" cy="5288040"/>
          </a:xfrm>
        </p:grpSpPr>
        <p:sp>
          <p:nvSpPr>
            <p:cNvPr id="206" name=""/>
            <p:cNvSpPr/>
            <p:nvPr/>
          </p:nvSpPr>
          <p:spPr>
            <a:xfrm>
              <a:off x="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9320" y="1569960"/>
              <a:ext cx="117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80" y="2286000"/>
              <a:ext cx="1743480" cy="39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Prevedib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Condivis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di informaz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Comportam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di ricer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752120" y="2286000"/>
            <a:ext cx="7391880" cy="3982680"/>
            <a:chOff x="1752120" y="2286000"/>
            <a:chExt cx="7391880" cy="3982680"/>
          </a:xfrm>
        </p:grpSpPr>
        <p:sp>
          <p:nvSpPr>
            <p:cNvPr id="210" name=""/>
            <p:cNvSpPr/>
            <p:nvPr/>
          </p:nvSpPr>
          <p:spPr>
            <a:xfrm>
              <a:off x="1752120" y="2286000"/>
              <a:ext cx="2034720" cy="39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im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scola strategi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rprese per sott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ttere 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 minacc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luff; cerca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edomin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maniere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pparire impegna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u una posizione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anipola in mo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struttivo l’altra po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81880" y="2332080"/>
              <a:ext cx="2452320" cy="34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ortamento flessibi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 senza sorpre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divide le informazio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d è onesto; tratta 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comprension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ntegr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soluzioni ai pr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lemi soddisfacen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r entramb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1640" y="2332080"/>
              <a:ext cx="259236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va incontro compl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amente a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nuncia alla prop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osizione p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mmorbidire 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osizione de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modi di adattar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la posizione de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trategie Negoziali (2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7612-292C-4F0B-A280-68A3AABB206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1981080"/>
            <a:ext cx="7543800" cy="487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168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4960" y="2098800"/>
            <a:ext cx="846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830240" y="1371600"/>
            <a:ext cx="6543360" cy="637560"/>
            <a:chOff x="1830240" y="1371600"/>
            <a:chExt cx="6543360" cy="637560"/>
          </a:xfrm>
        </p:grpSpPr>
        <p:sp>
          <p:nvSpPr>
            <p:cNvPr id="218" name=""/>
            <p:cNvSpPr/>
            <p:nvPr/>
          </p:nvSpPr>
          <p:spPr>
            <a:xfrm>
              <a:off x="1830240" y="137160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90920" y="137160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7280" y="137160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800" y="1338120"/>
            <a:ext cx="1464480" cy="5265000"/>
            <a:chOff x="1800" y="1338120"/>
            <a:chExt cx="1464480" cy="5265000"/>
          </a:xfrm>
        </p:grpSpPr>
        <p:sp>
          <p:nvSpPr>
            <p:cNvPr id="222" name=""/>
            <p:cNvSpPr/>
            <p:nvPr/>
          </p:nvSpPr>
          <p:spPr>
            <a:xfrm>
              <a:off x="229320" y="1338120"/>
              <a:ext cx="117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00" y="2133720"/>
              <a:ext cx="146448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Strumen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per ave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succes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Estre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negati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Attitud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chiave/comp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Affront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l’impas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76520" y="2100240"/>
            <a:ext cx="7230960" cy="4502880"/>
            <a:chOff x="1676520" y="2100240"/>
            <a:chExt cx="7230960" cy="4502880"/>
          </a:xfrm>
        </p:grpSpPr>
        <p:sp>
          <p:nvSpPr>
            <p:cNvPr id="225" name=""/>
            <p:cNvSpPr/>
            <p:nvPr/>
          </p:nvSpPr>
          <p:spPr>
            <a:xfrm>
              <a:off x="1676520" y="2133720"/>
              <a:ext cx="2227320" cy="42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rea una cattiv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mmagine dell’altro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gnora le logic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trui; aumen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l’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tenere che il su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obiettivo sia quell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 impedire a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aggiungere l’ob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o vinco, tu perdi.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correre ad u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diatore/arbi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62160" y="2133720"/>
              <a:ext cx="242784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vita i cattivi stereotip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sidera le idee 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ase al merito; n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nduce 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fondere la prop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dentità e quella de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Qual è il miglior modo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ddisfare gli obiettivi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ntrambe le parti ?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re un facilitat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sperto in dinamic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 grup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28480" y="2100240"/>
              <a:ext cx="207900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inimizza o evi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l conflitto e pla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l’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venta uno zerbi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l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u vinci, io perdo.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re formaz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ull’assertività 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sicoterap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trategie Negoziali (3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BF359-BA69-4DF1-938E-4B0E8DEAF79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I Conflitti e le Obiezioni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9978E-DC0E-4303-86F3-521131276B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4920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6440" y="1905120"/>
            <a:ext cx="275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IPO DI NEGOZIA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8400" y="1917720"/>
            <a:ext cx="268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ATTICHE UTILIZZ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2040" y="2362320"/>
            <a:ext cx="2154960" cy="4203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l’Aper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ggress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i Lunghi Silenz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l Beffar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8400" y="2374920"/>
            <a:ext cx="59252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Mette a disagio le controparti facendo commenti taglien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sulle loro prestazioni precedenti, i loro numeri, la lo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irragionevolezza, od ogni altra cosa possa ess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utilizzata per insinuare che non vale la pena parlare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le contropar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Ascolta le controparti ma non risponde in mo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immediato alle loro proposte e affermazioni, qua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piuttosto sembra lasciar loro molto tempo, con 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risultato che i lunghi silenzi hanno lo scopo di fare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modo che chi gli è di fronte si scopra di pi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eride e schernisce le proposte dell’opposizione al f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i mettere quest’ultima così in tensione da dire qualcos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i cui, poi, doversi penti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le Tattiche Negoziali (1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9302-8D16-41A3-B383-E5B8B9E5AC6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4308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440" y="1905120"/>
            <a:ext cx="275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IPO DI NEGOZIA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2280" y="1905120"/>
            <a:ext cx="268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ATTICHE UTILIZZ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0680" y="2374920"/>
            <a:ext cx="1959840" cy="3929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Interrog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all’Inf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Ragionevolezz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ivide et imp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3360" y="2374920"/>
            <a:ext cx="60246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fronta tutte le proposte con meticolosità, sollecitan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mande in modo tale da indurre la controparte a riten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e non abbia fatto attentamente il lavoro. Affronta og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sposta evidenziando i problemi e chi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’opposizione di spiegare in modo più approfond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sa inte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mbra disposto ad accettare ed è di aiuto, mentre p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mande impossibili allo scopo di conquistare l’amiciz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 la confidenza dell’oppos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rea dissenso tra l’opposizione in modo che deb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re attenta al disaccordo interno. Si allea con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sona del team e cercare di condizionarlo contro gli al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bri del grup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le Tattiche Negoziali (2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60DD-E8AC-43A6-BFCB-04FD679D249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0" i="1" lang="it-IT" sz="2800" spc="-1" strike="noStrike">
                <a:solidFill>
                  <a:srgbClr val="0000cc"/>
                </a:solidFill>
                <a:latin typeface="Tahoma"/>
              </a:rPr>
              <a:t>Più l’uomo dà agli altri, più possiede se stesso”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Lao-Tze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83109-3582-41E9-B4E3-1D86F32CAE7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l conflit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05264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valori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contro tra persona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scussioni di meri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28720" y="3270240"/>
            <a:ext cx="1725840" cy="123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EF0A-4F99-40B1-8E9A-92B1B635AD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strade per tentare di uscire da un conflit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80000" y="1988640"/>
            <a:ext cx="4906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METACOMUNICAZI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RIVOLGERSI AD UN TERZO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SARMO UNILATER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RISTRUTTURAZION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5800" y="2378160"/>
            <a:ext cx="2867040" cy="30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CBC5-6291-435D-BAE4-C7A9A3088F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a gestione delle obiez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i possono essere diversi tipi di bisogni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sicurezza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qua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nov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tranquil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…………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.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104920" y="2975040"/>
            <a:ext cx="974880" cy="18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D1FF-E48E-4990-AE37-00E6BED10D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Possibili risposte alle obiez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1640" y="105264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RINVI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Mi dà l'opportunità di parlarne dopo?"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RIDUR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Tenendo conto di tutte queste osservazioni quale è la più importante dalla quale partiamo?"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AMPLI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C'è qualcosa d'altro che vuole dirmi?”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ISOL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Rispondendo a queste domande soddisfo tutti i suoi bisogni?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TRASFORMARE IN ARGOMENTO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Dare la spiegazione tecnica.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CONTRODOMAND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Rilevare la fondatezza dell'opinione</a:t>
            </a:r>
            <a:r>
              <a:rPr b="0" lang="fr-FR" sz="17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1557360" y="3156120"/>
            <a:ext cx="2071800" cy="145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A725-A73F-40FC-8F08-B32D90C6A1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Il Gruppo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68CF0-7492-40E5-9333-0E871EB3ED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4:55:16Z</dcterms:created>
  <dc:creator>Giangreco</dc:creator>
  <dc:description/>
  <cp:keywords/>
  <dc:language>en-US</dc:language>
  <cp:lastModifiedBy>Daniela</cp:lastModifiedBy>
  <cp:lastPrinted>1999-04-19T15:18:12Z</cp:lastPrinted>
  <dcterms:modified xsi:type="dcterms:W3CDTF">2008-04-02T06:18:27Z</dcterms:modified>
  <cp:revision>273</cp:revision>
  <dc:subject/>
  <dc:title>Negoziazione</dc:title>
</cp:coreProperties>
</file>